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746-EBCD-4441-97C2-3DF7D027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8EE-26C9-4530-9728-E97892B1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5D5-6B70-4485-B15F-DE3527A6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E65-47D5-42A8-8639-59D9B745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2A2D-50DF-42FF-B198-4CF5F661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A6B3-90B2-45DD-BF42-0B2FBE6F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2ABD-9CB4-4EC2-8944-AE098F8A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CD40-53AB-465C-88AC-B6769CFF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C5D9-BF21-4A67-83E2-29F458DC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E063-4CAE-4726-B6C1-FC643DF8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B7AC-EBAC-4C63-BD61-F96E017A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3E3-BAFB-4597-94F7-2AD55A1A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15FA-F5E0-4864-9465-D7DFF87E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E500-A5A5-4125-9AED-90C851FE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C65F-3B5F-4298-9032-03A5782F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F7F5-DFA3-47B8-BA03-14EDA0FB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7DB4-B296-4EC1-A5EA-AEE44314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36B-971B-4789-9014-0FAFBD29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F72-6E59-428D-8D1E-446053B7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FA9-9991-4656-8924-9F7FAC91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1933-2322-4F37-8A30-76F6BD74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9FC-24D9-4BAF-984F-80814F19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D48-6248-4332-8341-BF33CAF8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C2A-F330-4002-BA74-CD730D13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5004-323F-4B43-B7D9-841D604E3B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C891-4C3F-4C1B-927D-AE6A2895A3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Vocabulary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04776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rooke&amp;&amp;Kennedy!((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33520"/>
            <a:ext cx="990360" cy="990360"/>
          </a:xfrm>
          <a:prstGeom prst="lightningBol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5181480"/>
            <a:ext cx="1190520" cy="1067040"/>
          </a:xfrm>
          <a:prstGeom prst="star5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eatestCommonFacto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common factor of two or more givin numbers. :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388620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403848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GCF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xedNumb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made up of a whole number, that is not zero and a fraction. (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038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1 ½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cent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atio comparing a number too 100(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38862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te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an answer close to the exact answer by rounding or other methods. =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Flashcard of a math symbol for Approximately Equal To"/>
          <p:cNvPicPr/>
          <p:nvPr/>
        </p:nvPicPr>
        <p:blipFill>
          <a:blip r:embed="rId1"/>
          <a:stretch/>
        </p:blipFill>
        <p:spPr>
          <a:xfrm>
            <a:off x="2819520" y="3048120"/>
            <a:ext cx="2581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quivalen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the same value(((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Flashcard of a math symbol for Equal To"/>
          <p:cNvPicPr/>
          <p:nvPr/>
        </p:nvPicPr>
        <p:blipFill>
          <a:blip r:embed="rId1"/>
          <a:stretch/>
        </p:blipFill>
        <p:spPr>
          <a:xfrm>
            <a:off x="3505320" y="2895480"/>
            <a:ext cx="25812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42:33Z</dcterms:created>
  <dc:creator>brooke.allen</dc:creator>
  <dc:description/>
  <dc:language>en-US</dc:language>
  <cp:lastModifiedBy>brooke.allen</cp:lastModifiedBy>
  <dcterms:modified xsi:type="dcterms:W3CDTF">2010-11-23T19:28:46Z</dcterms:modified>
  <cp:revision>2</cp:revision>
  <dc:subject/>
  <dc:title>-Vocabulary!!</dc:title>
</cp:coreProperties>
</file>